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B70-DD4B-452D-99B2-3FE6BD8B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EE4-B2DE-4F28-B279-9F6B6AD5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4A0-0219-4D7E-B688-624FC6FC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F1A-01F3-4817-AA97-196FB83B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FB3-DEAC-408F-B2A1-799138B3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17C-AEB6-40C8-8CE0-5C75C965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83C-5B2D-470D-ACB4-8275A7C8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BBA-C0E7-4025-975E-2A6B10C8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E20-EEC5-496C-A929-BBF4BE5A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72C-11B0-4107-8AB2-5E3230A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B72-5CA1-4776-9924-92CF5229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DF3-0F32-4247-9D1E-C4026F2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0AD6-5F22-41A3-8B42-544A89F7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4 Chváliť chcem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ňou vzdať mu česť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každej do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svoj ráči vi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chválospe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nachádz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iem, že len v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u pomoc m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a j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sveta spás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al život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jeho krí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a pieseň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mu zaspieva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íši bolesť, ž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mám dôvo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om sa bá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niem sa k n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ou odda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iem, že len o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ojou ochranou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úrky zahnať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radosť 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arosť, trá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o, čo sľúb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nez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raz večnou slá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ch odmení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15:24Z</dcterms:modified>
  <cp:revision>28</cp:revision>
  <dc:subject/>
  <dc:title>Je veľký náš Pán, on slávy je Kráľ Nech do všetkých strán  spev vrúcnych znie chvál.</dc:title>
</cp:coreProperties>
</file>